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9286-C96C-46CF-BA79-6063AF400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A6CE-7587-414A-9989-DED86150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B623-8408-4C8C-B753-922468BEA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5113-0BCE-4A4D-9282-5C584CDFD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E6C5-58BE-414C-B74B-2638B0F3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74AA-73EF-4BAC-A9A0-55BEFE39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95EA-8FE7-447B-9023-62E77C48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8786-CB5A-4729-A7D0-EF263721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1BFF-0A2D-49A5-B6DF-4E757644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01F4-6AE1-434D-B730-58DE263C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DCA6-9C81-4ECA-8522-7652A153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33C9-67A5-4281-9F6B-2BA3BF24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84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A06F-CE4F-465D-B661-5E178A0E8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reaty of Versail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553080" cy="2057400"/>
          </a:xfrm>
          <a:prstGeom prst="rect">
            <a:avLst/>
          </a:prstGeom>
          <a:solidFill>
            <a:srgbClr val="ffffff">
              <a:alpha val="84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e able to explain how the treaty of Versailles could have contributed to the causes of WW2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38320" y="0"/>
            <a:ext cx="3505320" cy="6858000"/>
          </a:xfrm>
          <a:prstGeom prst="rect">
            <a:avLst/>
          </a:prstGeom>
          <a:solidFill>
            <a:srgbClr val="ffffff">
              <a:alpha val="84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you see in this carto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this repres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the cartoonist is trying to s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59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152388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message of the carto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84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ark = correctly states that the cartoon is about the Treaty of Versailles and how it was too har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3 marks = as above but also give examples from the cartoon OR includes supporting knowledge e.g. the army was reduced, reparations were too high, germany lost land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marks = as above but includes BOTH supporting knowledge AND examples from the cartoon along with a developed explan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4479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useful are cartoons for leaning about Histor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772400" cy="4114800"/>
          </a:xfrm>
          <a:prstGeom prst="rect">
            <a:avLst/>
          </a:prstGeom>
          <a:solidFill>
            <a:srgbClr val="ffffff">
              <a:alpha val="84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solidFill>
            <a:srgbClr val="ffffff">
              <a:alpha val="84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to page 155, quickly in the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your book list the differences you can find between the map on that page and the map on page 1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re the key terms.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84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y took the blame (war guilt clau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y had to pay reparations (the actual figure of 6.6 billion pounds was decided upon late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y lost its colonies and some territ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y’s army was massively reduced, it was banned from having an air force and could only have a tiny n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52424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id people think of the trea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solidFill>
            <a:srgbClr val="ffffff">
              <a:alpha val="84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 one observer at the conference clearly wasn’t impressed, he sai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not peace, it is a truce for 20 yea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French thought that Germany had not been treated harshly enough, whilst Woodrow Wilson felt they had gone too fa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bout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84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the benefit of hindsight it is often suggested that the Treaty was too harsh and contributed towards the rise of Hitler and WW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 others have suggested that it wasn’t harsh enough and the problem is that is wasn’t enfor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king at cartoons from the time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84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www.activehistory.co.u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 in and then click on ‘GCSE history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go to “4. The Peace Treaties after World War One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all the way down to ‘Interactive cartoon analysis.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cartoons to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solidFill>
            <a:srgbClr val="ffffff">
              <a:alpha val="84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this o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save it to print lat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do this on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2590560" cy="2227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172200" y="4876920"/>
            <a:ext cx="2506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84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38080" y="0"/>
            <a:ext cx="7848720" cy="67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84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04920" y="0"/>
            <a:ext cx="8610480" cy="68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ulwich</cp:lastModifiedBy>
  <dcterms:modified xsi:type="dcterms:W3CDTF">2008-01-24T07:52:42Z</dcterms:modified>
  <cp:revision>7</cp:revision>
  <dc:subject/>
  <dc:title>The Treaty of Versailles</dc:title>
</cp:coreProperties>
</file>